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50B-52B9-4226-A5F6-F18AA309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F5B-B3C2-4EFD-A569-DF85937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B11-2669-4B6C-85D1-EE40E6D5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5CD-70CF-4EB8-8EEB-992DB5DF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1789-C6B7-4711-8332-4D1354E4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DA85-0AFC-4616-B0C6-AA82FC1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B494-B845-44F2-B8E8-0408B6A5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1D69-B6D6-4857-81F7-832047B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A2E-C3D9-4E6C-B61E-6D11822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4E9-4956-4DDD-BA5F-ABEF4E4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582-B074-4708-8D47-CF041BED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4E3-F2EF-4B80-9AD4-741905D9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5B1-BFCE-418F-AF13-363B22FA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B22-B71E-45B2-B455-7F4EC1D9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CD1-067D-4771-9853-7ACE6B0D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7707-CE4A-47EC-9DE7-0D0484B5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003B-9D7E-4C6E-B2B5-4509224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4CC-0B8C-487F-818B-23D22A7F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788-B867-48FD-931B-2138CC35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D38-36F6-4B2B-B6F1-A549C1D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27A-370A-4E6A-8D69-99B5CE00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20C-CCAB-48E8-B0DD-2DC7EE84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B08-9C43-4D33-B530-8C9B9B91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8AB-73DE-4587-93AA-2EF2831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AB0F-3834-43A0-AEC1-F866A7DD0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ED3-09AF-4B01-9B00-F038EE231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A-ZVCjfWf8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838080" y="5105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utting Together the Pieces of Differenti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484440"/>
          </a:xfrm>
          <a:prstGeom prst="rect">
            <a:avLst/>
          </a:prstGeom>
          <a:solidFill>
            <a:srgbClr val="d8e1e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a reflection paragraph in noting which strategies from today you plan to try and how you plan to implement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2286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osur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y a differentiation strategy this week-reflect in discussion thread on wiki how it worked and what you’d change next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e on 4-15-1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 you already differentiate in your class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0272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xplore aspects of differentiation and their applications for students in the co-taught classro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14400" y="3049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rainstor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8653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is differentiation especially important in a co-taught cla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83000"/>
          </a:bodyPr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rpose for viewi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the message of this video set the stage for differenti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youtube.com/watch?v=_A-ZVCjfWf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85800" y="2286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ideo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tly complete the Bender Classroom Structure Questionnai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completing it, discuss the results with your part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estionnai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31795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the pre-assessment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Assessment, Differentiation, and Extension Menu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green light or stop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152280"/>
            <a:ext cx="7086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-Assess Your Understa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394164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category, note whether you chose the green light or the stop sign.  Complete the activity in that box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should complete 3 activities (one for each categor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52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ifferentiation Men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2120" y="1773000"/>
            <a:ext cx="7696080" cy="2950920"/>
          </a:xfrm>
          <a:prstGeom prst="rect">
            <a:avLst/>
          </a:prstGeom>
          <a:solidFill>
            <a:srgbClr val="d8e1e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Read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Vocabular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5228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fferentiation Strateg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1:27:20Z</dcterms:created>
  <dc:creator>fcps</dc:creator>
  <dc:description/>
  <cp:keywords/>
  <dc:language>en-US</dc:language>
  <cp:lastModifiedBy>FCPS</cp:lastModifiedBy>
  <dcterms:modified xsi:type="dcterms:W3CDTF">2013-04-09T17:39:39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